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914-06CB-4DE9-A88C-46661FC8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E3C-1404-4C18-82A3-C374E5E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371-3E9C-4E88-8E1E-53A1814B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ADE-E603-444A-89C7-8638F0D2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FB5-CCCF-4962-81DF-245425C2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DEF-96E1-4472-8ED5-0AC83E51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E61-5751-4CA6-BC7A-6EEEC40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A01-6B7E-46D9-815C-61975AC2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79B-5F43-44BF-BB35-ABADCB0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C7C-1412-4649-A721-FD04EDEE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BB0-8DAC-4813-A714-DE19ECE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A41-6774-4458-B481-DB16DE38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D415-F7F1-49DD-832A-2EB7D161D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0T23:43:40Z</dcterms:modified>
  <cp:revision>54</cp:revision>
  <dc:subject/>
  <dc:title>Slide 1</dc:title>
</cp:coreProperties>
</file>