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AA8-4B14-4824-9ED8-F61DE1DA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B88-1425-40BC-87C3-673134CB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FC5-BC3C-4FDD-AADB-63E56901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683-D641-451F-9567-38F1BEAE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71C-520F-482E-B6AA-58FDF477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6F8-66D9-4397-AC8A-3AD6C911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06D-1E2E-4195-84A9-EBC97C71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B9F-816F-4E42-A045-178EA72D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CF5-455E-4A4A-A4A9-61D4ECDF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E44-AC7F-41A5-96AE-32DDF9B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CAA-5AC9-4042-ACEA-4281D32C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014-AE58-4A94-B4C7-40CA147B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64FF-F8D1-4EFA-95B2-CD9601E4C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1942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952880"/>
          <a:ext cx="838440" cy="1700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2-03T19:26:36Z</dcterms:modified>
  <cp:revision>26</cp:revision>
  <dc:subject/>
  <dc:title>Slide 1</dc:title>
</cp:coreProperties>
</file>