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C1F-A037-444F-B0EE-3816DD1E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4AF-4E5D-4FD3-BC04-B93AB442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DC2-26E1-4FBC-B54B-BFECE697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8E5-8833-41C7-A803-562837E7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C6F-4BE9-45B7-8145-7E303C85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019-F3DF-4C94-949A-782FEF36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23B-6C68-4C14-A12F-F304AADC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649-A046-44EA-BFA7-4A5449DB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460-D462-476E-BD60-72847E97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53A-EA54-479B-927B-E790F8DA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0E7-240F-4748-998E-92F9CF2C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603-5ADC-4B25-B1B1-D40BD537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E9FF-EDD1-4ADB-914A-F9D394A48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638680" y="14479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1522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 flipH="1" flipV="1">
            <a:off x="1981080" y="228240"/>
            <a:ext cx="533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uroL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3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114800" y="3124080"/>
          <a:ext cx="838080" cy="340056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eri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581280" y="2666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4800" y="137160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 flipV="1">
            <a:off x="3581280" y="14479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057400" y="18288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981080" y="2666880"/>
            <a:ext cx="53352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3000" y="5257800"/>
          <a:ext cx="838080" cy="1457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066680" y="1447920"/>
          <a:ext cx="990720" cy="3643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ag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3-23T00:56:02Z</dcterms:modified>
  <cp:revision>37</cp:revision>
  <dc:subject/>
  <dc:title>Slide 1</dc:title>
</cp:coreProperties>
</file>