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699-78ED-43B3-BB6B-A62D96F8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101-2DBC-4A89-997F-4B3A3F3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CE4-FB61-44DC-B8AC-46BE6A37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0A7-DBE0-4957-8016-008439E3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73E-4C02-48B5-B8A9-053A7B68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CED-7B49-4429-ACD7-974076AE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94D-269C-4B6D-BFFD-25CC653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D30-1683-4113-B425-08C297C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30A-14F4-48F1-9F7A-F5B4A702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A69-9BC4-402C-BF41-9197AFA5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EAB-27F8-45B3-93DF-6720258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484-0500-47D2-BF7A-5D9F4C6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4AE-AC66-4C84-B88A-A4F471EC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2-16T17:59:58Z</dcterms:modified>
  <cp:revision>30</cp:revision>
  <dc:subject/>
  <dc:title>Slide 1</dc:title>
</cp:coreProperties>
</file>