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DA1-7845-4D1E-9192-7BB9EF34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3A9-88EB-482B-995B-17DDAA20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C09-826C-47A5-8B50-E7C53FF1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6B2-A428-42F7-9B86-D1EF9B68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8C8-8CC4-47B2-8796-FE379247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7F8-98B6-479F-8A97-3438B3B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C14-A2BC-4FA9-BDDD-AE9E4AC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B6A-C4E0-4FBE-B118-71DFA826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81A-4EF7-458B-834B-DFB9267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836-5F15-49FB-99A2-E584691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484-2E70-4D56-B26A-C6DC690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F4E-74D0-40C1-985A-FC2BF7AA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125-482C-405B-925D-F17500A81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719280" cy="9349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205000"/>
            <a:ext cx="719280" cy="93492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619280" y="227628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48428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2130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briggs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1440" y="1196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1440" y="2780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981000"/>
            <a:ext cx="2158920" cy="1152720"/>
          </a:xfrm>
          <a:prstGeom prst="flowChartProcess">
            <a:avLst/>
          </a:prstGeom>
          <a:solidFill>
            <a:srgbClr val="dbc3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19700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ulate tRNA gene counts for both gen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local d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508640"/>
            <a:ext cx="914400" cy="685800"/>
          </a:xfrm>
          <a:prstGeom prst="flowChartMagneticDrum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373720"/>
            <a:ext cx="1368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b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(flat f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1800" y="494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Per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4076640"/>
            <a:ext cx="1728720" cy="158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rans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ni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e na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o Worm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48690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4264200"/>
            <a:ext cx="2016000" cy="25938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ce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quences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riggsa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) BLAT h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 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740720" y="3499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2492280"/>
            <a:ext cx="1871640" cy="79236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do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2160" y="34286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Pe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34959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DS n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907920"/>
            <a:ext cx="503280" cy="486000"/>
          </a:xfrm>
          <a:prstGeom prst="rightArrow">
            <a:avLst>
              <a:gd name="adj1" fmla="val 50000"/>
              <a:gd name="adj2" fmla="val 25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98900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33360"/>
            <a:ext cx="2232000" cy="1511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lative t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n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nonym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11:55Z</dcterms:created>
  <dc:creator>P</dc:creator>
  <dc:description/>
  <dc:language>en-US</dc:language>
  <cp:lastModifiedBy>P</cp:lastModifiedBy>
  <dcterms:modified xsi:type="dcterms:W3CDTF">2003-05-22T07:23:2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7615063</vt:r8>
  </property>
  <property fmtid="{D5CDD505-2E9C-101B-9397-08002B2CF9AE}" pid="3" name="_AuthorEmail">
    <vt:lpwstr>perseusm@shaw.ca</vt:lpwstr>
  </property>
  <property fmtid="{D5CDD505-2E9C-101B-9397-08002B2CF9AE}" pid="4" name="_AuthorEmailDisplayName">
    <vt:lpwstr>Perseus Missirlis</vt:lpwstr>
  </property>
  <property fmtid="{D5CDD505-2E9C-101B-9397-08002B2CF9AE}" pid="5" name="_EmailSubject">
    <vt:lpwstr>read this, make flowchart</vt:lpwstr>
  </property>
</Properties>
</file>