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89E1-BCDA-4CA4-BEA5-E9D4D7A65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053F-F9CE-470B-8BB8-CCC47A8CC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62F3-9555-4F9F-A8DB-C6A0DA5CD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B959-A7C2-490F-A02D-F8F215BA0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6268-3EA2-4A37-911F-84A8FD720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57D7-2121-4774-B121-85BF3A4D6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4E1C-6469-44C6-86D0-70DCAE763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B34B-2474-4790-BEDC-0ECD826B1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8E8D-B7FF-4F3D-A772-39224CF20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E327-613D-4E32-AB0C-B78DBD730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0B19-BBCE-45B9-A0D2-E2E09D51C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5E86-2D41-410B-A2BD-E164B05D1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2934D-DA2C-499D-A2CD-0AAACB87B3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514600" y="2514600"/>
          <a:ext cx="1066680" cy="2185920"/>
        </p:xfrm>
        <a:graphic>
          <a:graphicData uri="http://schemas.openxmlformats.org/drawingml/2006/table">
            <a:tbl>
              <a:tblPr/>
              <a:tblGrid>
                <a:gridCol w="106668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e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io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g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" name=""/>
          <p:cNvGraphicFramePr/>
          <p:nvPr/>
        </p:nvGraphicFramePr>
        <p:xfrm>
          <a:off x="1219320" y="3657600"/>
          <a:ext cx="838080" cy="169992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k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p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 flipV="1">
            <a:off x="6477120" y="762120"/>
            <a:ext cx="6094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7086600" y="609480"/>
          <a:ext cx="838080" cy="971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go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_va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4114800" y="4876920"/>
          <a:ext cx="838080" cy="485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7086600" y="1752480"/>
          <a:ext cx="838080" cy="971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db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a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6477120" y="1523880"/>
            <a:ext cx="6094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086600" y="2895480"/>
          <a:ext cx="838080" cy="971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mim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m_va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7086600" y="4038480"/>
          <a:ext cx="838080" cy="971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f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ffy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_re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c8c8c"/>
                    </a:solidFill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6477120" y="1523880"/>
            <a:ext cx="609480" cy="266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77120" y="1523880"/>
            <a:ext cx="60948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5638680" y="1447920"/>
          <a:ext cx="838440" cy="1942920"/>
        </p:xfrm>
        <a:graphic>
          <a:graphicData uri="http://schemas.openxmlformats.org/drawingml/2006/table">
            <a:tbl>
              <a:tblPr/>
              <a:tblGrid>
                <a:gridCol w="838440"/>
              </a:tblGrid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8153280" y="4952880"/>
          <a:ext cx="838440" cy="1700280"/>
        </p:xfrm>
        <a:graphic>
          <a:graphicData uri="http://schemas.openxmlformats.org/drawingml/2006/table">
            <a:tbl>
              <a:tblPr/>
              <a:tblGrid>
                <a:gridCol w="83844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no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id_re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c8c8c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r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7924680" y="41148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219320" y="1523880"/>
          <a:ext cx="838080" cy="1214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_b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_b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_b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 flipH="1" flipV="1">
            <a:off x="2057400" y="1599840"/>
            <a:ext cx="4572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chz_d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v1.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0401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114800" y="3505320"/>
          <a:ext cx="838080" cy="97128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e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9" name=""/>
          <p:cNvSpPr/>
          <p:nvPr/>
        </p:nvSpPr>
        <p:spPr>
          <a:xfrm>
            <a:off x="3581280" y="2666880"/>
            <a:ext cx="53352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52280" y="152280"/>
          <a:ext cx="838440" cy="971640"/>
        </p:xfrm>
        <a:graphic>
          <a:graphicData uri="http://schemas.openxmlformats.org/drawingml/2006/table">
            <a:tbl>
              <a:tblPr/>
              <a:tblGrid>
                <a:gridCol w="83844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ild_inf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b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_ru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4114800" y="1905120"/>
          <a:ext cx="1066680" cy="1457280"/>
        </p:xfrm>
        <a:graphic>
          <a:graphicData uri="http://schemas.openxmlformats.org/drawingml/2006/table">
            <a:tbl>
              <a:tblPr/>
              <a:tblGrid>
                <a:gridCol w="106668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crip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_lo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 flipV="1">
            <a:off x="3581280" y="198072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5181480" y="15238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7T17:33:38Z</dcterms:created>
  <dc:creator>Perseus Missirlis</dc:creator>
  <dc:description/>
  <dc:language>en-US</dc:language>
  <cp:lastModifiedBy>Perseus Missirlis</cp:lastModifiedBy>
  <dcterms:modified xsi:type="dcterms:W3CDTF">2004-01-31T02:42:13Z</dcterms:modified>
  <cp:revision>26</cp:revision>
  <dc:subject/>
  <dc:title>Slide 1</dc:title>
</cp:coreProperties>
</file>