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156-FE94-4824-B382-E792FBAE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17F-4A09-48A2-8DFE-24C51890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6DB-D781-423B-8442-D875FAD2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8A9C-553C-4CD8-A741-324916BB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7A3-574F-4118-AD41-69DFB70D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DA6-62B3-4E13-8A11-33ECB566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68D-D9AD-4DC5-81AA-BA0F5160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CE3-49B3-4504-9233-0A43BC53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570-69B0-4961-BDCE-CD135CE9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BB0-0382-4888-84AF-968653DF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B23-C103-432D-83A0-F0631E5A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41D4-7C09-4C35-AA1F-4DEA1B19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1AD3-FC68-4004-B82D-0E4022BF4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124080" y="2590920"/>
          <a:ext cx="1067040" cy="2671560"/>
        </p:xfrm>
        <a:graphic>
          <a:graphicData uri="http://schemas.openxmlformats.org/drawingml/2006/table">
            <a:tbl>
              <a:tblPr/>
              <a:tblGrid>
                <a:gridCol w="10670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600200" y="373392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019920" y="9140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191120" y="152352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629400" y="8380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81480" y="5029200"/>
          <a:ext cx="838080" cy="485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629400" y="17524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60199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9400" y="26668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629400" y="35812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019920" y="1523880"/>
            <a:ext cx="60948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1523880"/>
            <a:ext cx="6094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181480" y="1447920"/>
          <a:ext cx="838440" cy="1699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8001000" y="4191120"/>
          <a:ext cx="838080" cy="1214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_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7467480" y="37339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00200" y="1600200"/>
          <a:ext cx="838080" cy="1214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 flipH="1" flipV="1">
            <a:off x="2437920" y="167616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181480" y="3429000"/>
          <a:ext cx="838080" cy="971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191120" y="2743200"/>
            <a:ext cx="9903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1-15T03:28:43Z</dcterms:modified>
  <cp:revision>16</cp:revision>
  <dc:subject/>
  <dc:title>Slide 1</dc:title>
</cp:coreProperties>
</file>