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1D4-1975-499A-B325-33A8C93D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DC7-0B40-4B57-9C85-6F4AFA2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EFE-44B4-4EFF-B290-59C04D95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232-E702-4F37-B2C1-DFAB2C68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2E7-76D7-4655-9F19-D5F3722D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AE5-8B01-4A2B-A0D7-984BCD4C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E15-E094-4BEC-BD39-DBE39567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A87-7C32-4D86-A4B1-5A4366FF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24F-3306-4AA1-8F27-09686A36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CDA-4CDC-49A4-95B7-98B974C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8F9-1ACD-497C-BFE6-90EE228E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AD6-A3A0-4084-8F8C-2C2BB28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5072-E3E0-41B8-B11E-6E3575B9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96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858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17220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648320" y="1523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78168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09880" y="4952880"/>
          <a:ext cx="838080" cy="4860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78168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17220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8168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78168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7220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4120" y="1447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153280" y="41911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762012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 flipV="1">
            <a:off x="15235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9880" y="35812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276720" y="27432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9880" y="2133720"/>
          <a:ext cx="838440" cy="728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V="1">
            <a:off x="3276720" y="2286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6T02:17:03Z</dcterms:modified>
  <cp:revision>20</cp:revision>
  <dc:subject/>
  <dc:title>Slide 1</dc:title>
</cp:coreProperties>
</file>