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359-778C-4FD8-81E3-33B5E1A5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318-5C10-40FE-99C5-D53E8DF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6DC-EE0C-49D8-A4F0-CE2E58A4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5CA-F284-49DC-8260-5567BCAD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7C3-979E-4FC9-AA80-0E18C00F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E68-F8F2-4FF5-9D56-C3DC64A4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006-786F-4F00-BC69-D26BE4D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587-A0CD-462A-921D-85EAEBF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479-9B8E-49D5-B32C-B761024A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B5F-3AB5-4CB0-B0BD-A593C77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293-D57F-4E48-9D05-33982ED0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753-33A8-41AD-B85B-FC15E31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C9C-BFE8-4ABC-9368-813AE78FF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76920" y="4191120"/>
          <a:ext cx="685800" cy="2428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f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2133720" y="434340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81280" y="46483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600200" y="21337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867280" y="3962520"/>
          <a:ext cx="990720" cy="1699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172200" y="1600200"/>
          <a:ext cx="990720" cy="19432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_rep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_rep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286000" y="99072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886200" y="2895480"/>
            <a:ext cx="457200" cy="457200"/>
          </a:xfrm>
          <a:prstGeom prst="flowChartDecision">
            <a:avLst/>
          </a:prstGeom>
          <a:solidFill>
            <a:srgbClr val="f7fb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048120" y="3124080"/>
            <a:ext cx="8380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200400" y="12949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4800" y="1981080"/>
            <a:ext cx="1981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12408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124080"/>
            <a:ext cx="457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962160" y="33526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66652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379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37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4379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29200" y="228600"/>
          <a:ext cx="838080" cy="1700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152280"/>
          <a:ext cx="838080" cy="1700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pr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_fc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3-11-27T00:52:12Z</dcterms:modified>
  <cp:revision>7</cp:revision>
  <dc:subject/>
  <dc:title>Slide 1</dc:title>
</cp:coreProperties>
</file>