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D07-EB37-49CC-8052-5B21DD6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614-BCD8-41D5-8C0F-D39C3EAC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5C5-993B-4FA2-99E2-F740DA1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F2E-8D46-4692-AF0D-E3D7B877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617-BA67-40D0-84A9-FEEAAE3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587-7C0D-4025-8585-D14A8694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BE9-6E35-44AE-9265-91A16983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85A-B779-4F82-8FD4-2863ED8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E56-1252-487C-9251-B23D3DE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AA9-F657-462B-9E57-FF72CE1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ADD-05A9-4AE6-BABD-FB00B5D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88B-616C-4885-B851-C32DBC6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A29-F122-4267-B956-28EF7CCE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228600"/>
            <a:ext cx="3276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ase-associated rep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200400" y="9144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9144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22096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 to 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1752480"/>
            <a:ext cx="22100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560" y="2743200"/>
            <a:ext cx="2971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31240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no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657600"/>
            <a:ext cx="31244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48320" y="46483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648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486400"/>
            <a:ext cx="373392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486400"/>
            <a:ext cx="373392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3:19:12Z</dcterms:created>
  <dc:creator>Perseus Missirlis</dc:creator>
  <dc:description/>
  <dc:language>en-US</dc:language>
  <cp:lastModifiedBy>Perseus Missirlis</cp:lastModifiedBy>
  <dcterms:modified xsi:type="dcterms:W3CDTF">2004-06-21T15:56:42Z</dcterms:modified>
  <cp:revision>4</cp:revision>
  <dc:subject/>
  <dc:title>Slide 1</dc:title>
</cp:coreProperties>
</file>