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874-1AD1-4A56-B82D-BBC98094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B95-BAB7-4136-AC82-C6C2A1DA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AFE-38D3-4285-8A07-164059A2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14F-2E43-4FDA-BF0F-C60A37D8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15E-EF92-4AEA-9B5C-094303D8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AC2-FB5C-4157-B1B3-AE282702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3C6-B994-4C4C-A3C9-01C5E272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BC2-7A1E-48C0-9899-7E255096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40D-4FDD-43FC-86D3-1E66EA8D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7E2-9B1F-481B-9233-F7B6BE08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2BD-A0EB-4520-B95D-CACE42DA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F3B-A18A-4FD7-9658-E1121A64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F671-AB85-49B2-AE99-6ADCD0B62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14600" y="2514600"/>
          <a:ext cx="1066680" cy="218592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219320" y="365760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6477120" y="7621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114800" y="4876920"/>
          <a:ext cx="838080" cy="485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47712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477120" y="1523880"/>
            <a:ext cx="6094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5238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638680" y="1447920"/>
          <a:ext cx="838440" cy="1942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8153280" y="4952880"/>
          <a:ext cx="838440" cy="1700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792468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19320" y="1523880"/>
          <a:ext cx="838080" cy="1214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 flipH="1" flipV="1">
            <a:off x="2057400" y="15998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z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14800" y="3505320"/>
          <a:ext cx="838080" cy="971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3581280" y="26668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114800" y="1905120"/>
          <a:ext cx="1066680" cy="1457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 flipV="1">
            <a:off x="3581280" y="1980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8148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1-22T23:04:21Z</dcterms:modified>
  <cp:revision>24</cp:revision>
  <dc:subject/>
  <dc:title>Slide 1</dc:title>
</cp:coreProperties>
</file>