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8FC-EC2C-4138-8112-C08D1147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876-8E5C-4D22-80EC-0D56914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134-18CD-4CF0-B76E-0A29894E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251-777D-407A-995B-22FDC8E9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232-938E-44B9-ACAA-A3F7B1E7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C22-AB01-4F9A-AD8A-8161EB43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099-16E3-4798-86D2-D7FE1A66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49F-7763-4AE9-B59C-1660B5F9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2B2-E897-4E61-A0BA-253B954F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0BE-A20F-4E81-A820-E92622D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203-1CB4-49BB-9FA1-A86FB50C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D42-E2C2-4990-B9E1-13C99E7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112C-55A6-46FD-A601-D4BDAD8C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Neu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2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504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638680" y="320040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581280" y="1981080"/>
            <a:ext cx="53352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400" y="15235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066680" y="1447920"/>
          <a:ext cx="990720" cy="3643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9051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14800" y="5486400"/>
          <a:ext cx="1066320" cy="1214280"/>
        </p:xfrm>
        <a:graphic>
          <a:graphicData uri="http://schemas.openxmlformats.org/drawingml/2006/table">
            <a:tbl>
              <a:tblPr/>
              <a:tblGrid>
                <a:gridCol w="10663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502920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114800" y="3352680"/>
          <a:ext cx="1066680" cy="7779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581280" y="2057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5-05T23:25:23Z</dcterms:modified>
  <cp:revision>47</cp:revision>
  <dc:subject/>
  <dc:title>Slide 1</dc:title>
</cp:coreProperties>
</file>