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281-AFAC-499D-8B25-FA09BFF1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2D2-3545-4418-AE99-1342D0B6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BF2-019E-4C65-B762-E867C280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A644-A7AB-4172-B10A-E609C96F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AB0-E586-4261-B475-9D655A09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A85-46FB-45C4-A465-FE1120D0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00B-17CE-4A9E-B3EE-ABAFCA94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B38-4BFC-4600-BB57-2B6DF484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5DD-B779-44F5-8E78-851C6AC4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3C8-F1B8-410C-ABDC-873CFD95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471-2B75-40C1-BE1B-DCB061BC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E44-725E-4112-A613-D7D88DFE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C639-354E-4079-8F9A-D38FBD607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>
            <a:off x="914040" y="167616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477120" y="7617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477120" y="91440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6477120" y="914400"/>
            <a:ext cx="60948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914400"/>
            <a:ext cx="6094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638680" y="762120"/>
          <a:ext cx="838440" cy="2185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8153280" y="4724280"/>
          <a:ext cx="838440" cy="1943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7926480" y="4119480"/>
            <a:ext cx="226800" cy="9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152280"/>
          <a:ext cx="990360" cy="121464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H="1" flipV="1">
            <a:off x="2057400" y="30492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MicroLog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v1.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- 0406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638680" y="3200400"/>
          <a:ext cx="990720" cy="315756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sease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648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114800" y="152280"/>
          <a:ext cx="1066680" cy="1700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 flipV="1">
            <a:off x="3581280" y="309240"/>
            <a:ext cx="534960" cy="174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04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574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057400" y="2666880"/>
            <a:ext cx="45720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66680" y="5181480"/>
          <a:ext cx="990360" cy="145728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yt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6320" y="1523880"/>
          <a:ext cx="838080" cy="36432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k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514600" y="1676520"/>
          <a:ext cx="1066680" cy="26715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14800" y="3809880"/>
          <a:ext cx="1066680" cy="9716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s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581280" y="198108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14600" y="4724280"/>
          <a:ext cx="1066680" cy="2046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s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5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114800" y="2819520"/>
          <a:ext cx="1066680" cy="7318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3581280" y="20574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2057400"/>
            <a:ext cx="53352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114800" y="5181480"/>
          <a:ext cx="1066680" cy="15573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3581280" y="1981080"/>
            <a:ext cx="5335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66680" y="3048120"/>
          <a:ext cx="990720" cy="194292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g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uster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t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6-11T19:54:48Z</dcterms:modified>
  <cp:revision>55</cp:revision>
  <dc:subject/>
  <dc:title>Slide 1</dc:title>
</cp:coreProperties>
</file>