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640-6617-4FAC-9610-2C3601B6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12E-247B-4253-9227-F08A1A36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5B7-70F8-430A-AB12-29811D24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032-A60F-4FA8-94FF-E6A75C33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2DC-59BE-4CE0-8C60-FC3E3939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C10-017A-43EA-AB5D-6D97C437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948-BFF8-4D45-BCF6-1D6B8554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8BD-A502-4CD1-83BA-24B55E6F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441360"/>
            <a:ext cx="987408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E2A-3272-4379-B7AB-B090F9CF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DAA-2CC2-47E2-8FF6-1C25E6E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111-0845-42E6-8BAC-BA821906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5E3-B8E7-4B24-B300-2A186C0A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68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61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1800"/>
            <a:ext cx="34732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BE1346FA-EC68-47FD-B36B-CBD28896041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1:18:24Z</dcterms:created>
  <dc:creator>Genome Sciences Centre</dc:creator>
  <dc:description/>
  <dc:language>en-US</dc:language>
  <cp:lastModifiedBy>Genome Sciences Centre</cp:lastModifiedBy>
  <dcterms:modified xsi:type="dcterms:W3CDTF">2009-03-31T01:22:28Z</dcterms:modified>
  <cp:revision>1</cp:revision>
  <dc:subject/>
  <dc:title>Slide 1</dc:title>
</cp:coreProperties>
</file>